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4.png" ContentType="image/png"/>
  <Override PartName="/ppt/media/image2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5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A233-B31C-418C-BBEF-239F78FE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0C8-BCDA-4C79-A099-6087C81C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DC7-DA81-4CB4-A217-1B8D8EDA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F50-7AAC-43F8-90B4-2A1A9CC7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9234-3DDD-49EE-B42A-CF14BB16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8FC9-FA2D-404B-88BD-4B75521B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2C1C-054F-41AB-B30B-0447B04E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97F5-FD6F-4FE1-A626-0ABE17EE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953F-82F3-4306-810A-2CF02E36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6143-4B5D-41C2-BE9C-CF735394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1FF1-CC96-49E7-89CA-3FA8F7FF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B23-12E2-4924-AE4E-D62101C7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7641-F3FA-4A05-91D1-6D4F475C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84EB-BD3F-4205-9FB8-CAF3F329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2A5C-C8F5-4CB9-B59A-C46C01B4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A208-CA16-48D9-B5E3-927439B1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D783-2AFD-49C3-BB01-5A140EC6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C6D9B-6372-4A56-B5B8-0AA541C7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7B9A3-C2A9-4F0F-A66F-4533B292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E47D7-F542-483B-81A0-9F2A90FB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BD435-C2E7-47BF-ACD8-9CC973F8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07A70-07ED-47A7-804B-71992257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424-3172-4D26-8C93-6C83C78F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60FF8-6A4B-4313-933D-BC7B77ED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C0D27-CB9F-45F8-90B5-1415E3B9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D4AB3-C064-4776-A870-CBAD7C7A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BEB43-0757-413D-9BD6-25E7A2DA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CB47-8056-4E90-ACF5-DF2A6EEB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C1CE5-B234-4FB6-92E8-927A02AC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3277D-D65C-4447-A2E7-1E72DF1C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56459-4E61-48D9-878E-E02E2FD4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48ECF-51FB-4983-BE62-66D71744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80717-5994-42A4-BC31-158E57B2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0B4-4533-4EC8-84DE-C5A6E286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F4A4D-0C4C-4BA7-A1D7-D8C05EA3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E0A6E-D717-4A87-A713-30510817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420CC-A6AE-41B2-89B3-2F8C8A48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8941F-C41F-4C40-8416-EDB5DAC4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4845D-63FC-4A91-B996-666AD24B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A0DC4-C089-4FD9-B33C-40BD4A45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A46AB-3B69-44BD-AD6F-126927E3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6A6BA-426E-46CA-890B-80B107C5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39EFB-B5B7-465B-89DE-2BB76702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6DB26-1B66-41EB-9BDE-0A6024F3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64B-5DEA-4738-ACC0-C2D3812A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CE84F-FDD8-4097-8A37-C0A145C0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947FC-775E-48D8-90D3-5A6ABDD8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55C77-EA60-4B8F-A50E-A999727F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BF8B9-F8CA-4000-805D-E6DB30BC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020DC-A290-41CA-88FB-1C0A1257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6A25B-1470-4814-8028-B2ED9D7F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FBDAC-FC7F-4508-850C-8220697C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9D628-9CB3-4237-A732-7B110AB7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DF962-4A76-47B0-851D-EBF8ADD0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02F9C-52F3-4BF8-ADFB-F7E819DF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B923-F8DB-4B6E-89EE-09DE1C39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1E957-6196-43AD-ABDC-BD424BAB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22752-81A0-4616-AD1C-53B910E8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5D2EB-A4EF-4C39-B10C-960375DF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EE8E7-EE44-4AFD-A608-5EC5FB0C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0167F-1428-48BB-9579-31D72681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162BF-9F23-4002-BCB8-3B700415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9F0ED-457D-493F-ACC7-E1D9BF67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12FDB-A9D7-480B-B69D-B06F583D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E7D19-9540-45CB-8130-4375E9EB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31F61-269D-4888-800C-D4A9D072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842-A9C8-4FC5-B1A1-D16ADE24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23816-D873-4A57-97E3-71E09B3B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2B4C5-0F90-495C-A8B6-923DA6BC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585E5-36DA-43C8-AA5E-7BC64CAB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64AF0-0C78-40F3-8A61-E2AE40FC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62062-E87E-4B08-B209-FDD38BF7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2571F-B423-4325-BFC1-8D9CEAEF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0DD13-9541-46F1-A30D-F708CDF1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2A931-B9C3-43ED-94D8-BBBE3476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B7187-7D01-48FC-81BF-61840D88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D1FD6-7229-47C4-8B81-9DDF38DD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5226-F7EC-4667-9668-713563DD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2BD41-1DB4-4D31-9616-EA057861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474BE-A961-4A2D-AE80-BB6E554C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21B55-267A-4F45-971E-B7B2636E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9CA1E-21DB-4ACC-8EE0-344E72B5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494A6-A000-4BBA-8B2A-C03E161A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685-CD22-46CE-B5C2-3FD0A4AC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ladimir Scrip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D7B1-1683-4980-B632-96EBCC3A61E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ladimir Scrip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C2A2-5704-42B8-AA9F-A21767B99C1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ladimir Scrip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4699-93DB-44F8-A1E1-4817274E704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ladimir Scrip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A4EA-733A-4C95-98D8-B7FAB809A66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ladimir Scrip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DED4-EDA5-4F0C-A924-2450383756A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ladimir Scrip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CE1B-0004-4FE4-AC79-60CC613B92D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ladimir Scrip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24CE-82C4-4F8A-B20C-D76EEF2B984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mages.google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572314"/>
                </a:solidFill>
                <a:latin typeface="Vladimir Script"/>
              </a:rPr>
              <a:t>The Renaissance:</a:t>
            </a:r>
            <a:endParaRPr b="0" lang="en-US" sz="96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2570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e04"/>
                </a:solidFill>
                <a:latin typeface="Vladimir Script"/>
              </a:rPr>
              <a:t>A Flourish of Genius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e04"/>
                </a:solidFill>
                <a:latin typeface="Vladimir Script"/>
              </a:rPr>
              <a:t>1485-1660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Vladimir Script"/>
              </a:rPr>
              <a:t>Henry VIII – 1509-1547</a:t>
            </a:r>
            <a:endParaRPr b="0" lang="en-US" sz="5400" spc="-1" strike="noStrike">
              <a:solidFill>
                <a:srgbClr val="572314"/>
              </a:solidFill>
              <a:latin typeface="Vladimir Script"/>
            </a:endParaRPr>
          </a:p>
        </p:txBody>
      </p:sp>
      <p:pic>
        <p:nvPicPr>
          <p:cNvPr id="333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65120"/>
            <a:ext cx="7510320" cy="4889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http://philosophy.ucsd.edu/faculty/rutherford/hum3/images/holbein_henry_viii.jpg"/>
          <p:cNvPicPr/>
          <p:nvPr/>
        </p:nvPicPr>
        <p:blipFill>
          <a:blip r:embed="rId2"/>
          <a:stretch/>
        </p:blipFill>
        <p:spPr>
          <a:xfrm>
            <a:off x="1447920" y="1447920"/>
            <a:ext cx="17334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434960" y="456840"/>
            <a:ext cx="7499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Had 6 wiv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therine of Aragon (divorced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he was the daughter of Ferdinand and Isabella of Spai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ad one child with Henry—a daughter named Ma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ne Boleyn (beheaded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ad one child with Henry—a daughter named Elizabet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ane Seymour (died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ad one child with Henry—a s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41840" indent="-16416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amed Edwar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ne of Cleves (divorced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therine Howard (beheaded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therine Parr (survived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2" descr="http://www.ict.oxon-lea.gov.uk/best_practice/henry/The%20Wives%20of%20Henry%20VIII_title.jpg"/>
          <p:cNvPicPr/>
          <p:nvPr/>
        </p:nvPicPr>
        <p:blipFill>
          <a:blip r:embed="rId1"/>
          <a:stretch/>
        </p:blipFill>
        <p:spPr>
          <a:xfrm>
            <a:off x="6705720" y="3657600"/>
            <a:ext cx="21240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3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434960" y="380520"/>
            <a:ext cx="7499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Henry wanted his marriage to Catherine of Aragon annulled, but the pope refuse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is motives were that Catherine was too old to give him the male heir he thought he must have (she had already had 5 miscarriages) and he was already interested in Anne Boley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ope would not grant the annulment.  He was controlled by Queen Catherine’s nephew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Henry declared the pope had no authority in England, made the Church of England a separate institution, and established the king as the supreme head of the Church of England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456840"/>
            <a:ext cx="7499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nry appointed a new archbishop of Canterbury who declared Henry’s marriage invalid (based on scripture from Leviticus that states a man cannot marry his dead brother’s wife.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omas More (remember him?) remained loyal to the pope and refused to recognize Henry as the head of the Churc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nry had him beheaded.  (How ‘bout that for friendship??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Vladimir Script"/>
              </a:rPr>
              <a:t>Interesting Tidbits about Henry’s Wives</a:t>
            </a:r>
            <a:endParaRPr b="0" lang="en-US" sz="39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therine –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rried to Arthur, Henry’s brother, for all of 5 months; Arthur died of “sweating sickness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trothed to Henry 14 months later, but he was still too young to mar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enry was old enough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marry, Henry VII wasn’t a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een on a Spanish alliance, s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engagement was called off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Picture 2" descr="http://historygo.net/wp-content/themes/iblue/images/CatherineAragon.jpg"/>
          <p:cNvPicPr/>
          <p:nvPr/>
        </p:nvPicPr>
        <p:blipFill>
          <a:blip r:embed="rId1"/>
          <a:stretch/>
        </p:blipFill>
        <p:spPr>
          <a:xfrm>
            <a:off x="6629400" y="4114800"/>
            <a:ext cx="18763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434960" y="380520"/>
            <a:ext cx="7499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ne Boleyn –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er sister Mary was one of Henry’s mistress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he was a lady-in-waiting to Catherine of Aragon (Yep, this was Henry’s wife.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d a relationship of some kind with Sir Thomas Wyat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 liked by the English peop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rested on charges of adultery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est (with her brother, George), and plott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rder of the k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trumped up charge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3" name="Picture 2" descr="http://englishhistory.net/tudor/monarchs/boleynmainjpg.jpg"/>
          <p:cNvPicPr/>
          <p:nvPr/>
        </p:nvPicPr>
        <p:blipFill>
          <a:blip r:embed="rId1"/>
          <a:stretch/>
        </p:blipFill>
        <p:spPr>
          <a:xfrm>
            <a:off x="7010280" y="3657600"/>
            <a:ext cx="19623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434960" y="380520"/>
            <a:ext cx="7499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ane Seymour –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trothed to Henry within 24 hours of Anne’s execut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ed two weeks after her son, Edward, was bor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enry remained single f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years following Jane’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at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Picture 2" descr="http://www.tudorjewels.com/photographs/jane%20seymour%20portrait.jpg"/>
          <p:cNvPicPr/>
          <p:nvPr/>
        </p:nvPicPr>
        <p:blipFill>
          <a:blip r:embed="rId1"/>
          <a:stretch/>
        </p:blipFill>
        <p:spPr>
          <a:xfrm>
            <a:off x="6400800" y="2895480"/>
            <a:ext cx="20383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Vladimir Script"/>
              </a:rPr>
              <a:t>Edward VI – 1547-1553</a:t>
            </a:r>
            <a:endParaRPr b="0" lang="en-US" sz="5400" spc="-1" strike="noStrike">
              <a:solidFill>
                <a:srgbClr val="572314"/>
              </a:solidFill>
              <a:latin typeface="Vladimir Script"/>
            </a:endParaRPr>
          </a:p>
        </p:txBody>
      </p:sp>
      <p:pic>
        <p:nvPicPr>
          <p:cNvPr id="347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65120"/>
            <a:ext cx="7510320" cy="4889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http://tudorhistory.org/edward/edward.jpg"/>
          <p:cNvPicPr/>
          <p:nvPr/>
        </p:nvPicPr>
        <p:blipFill>
          <a:blip r:embed="rId2"/>
          <a:stretch/>
        </p:blipFill>
        <p:spPr>
          <a:xfrm>
            <a:off x="1523880" y="1523880"/>
            <a:ext cx="17431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Vladimir Script"/>
              </a:rPr>
              <a:t>Mary Tudor – 1553-1558</a:t>
            </a:r>
            <a:endParaRPr b="0" lang="en-US" sz="5400" spc="-1" strike="noStrike">
              <a:solidFill>
                <a:srgbClr val="572314"/>
              </a:solidFill>
              <a:latin typeface="Vladimir Script"/>
            </a:endParaRPr>
          </a:p>
        </p:txBody>
      </p:sp>
      <p:pic>
        <p:nvPicPr>
          <p:cNvPr id="350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22280"/>
            <a:ext cx="7522920" cy="4932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http://englishhistory.net/tudor/monarchs/elizsister.jpg"/>
          <p:cNvPicPr/>
          <p:nvPr/>
        </p:nvPicPr>
        <p:blipFill>
          <a:blip r:embed="rId2"/>
          <a:stretch/>
        </p:blipFill>
        <p:spPr>
          <a:xfrm>
            <a:off x="1447920" y="1447920"/>
            <a:ext cx="17143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Vladimir Script"/>
              </a:rPr>
              <a:t>Elizabeth I -- 1558-1603</a:t>
            </a:r>
            <a:endParaRPr b="0" lang="en-US" sz="5400" spc="-1" strike="noStrike">
              <a:solidFill>
                <a:srgbClr val="572314"/>
              </a:solidFill>
              <a:latin typeface="Vladimir Script"/>
            </a:endParaRPr>
          </a:p>
        </p:txBody>
      </p:sp>
      <p:pic>
        <p:nvPicPr>
          <p:cNvPr id="353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65120"/>
            <a:ext cx="7651440" cy="4889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http://englishhistory.net/tudor/eliz1-ermine.jpg"/>
          <p:cNvPicPr/>
          <p:nvPr/>
        </p:nvPicPr>
        <p:blipFill>
          <a:blip r:embed="rId2"/>
          <a:stretch/>
        </p:blipFill>
        <p:spPr>
          <a:xfrm>
            <a:off x="1447920" y="1447920"/>
            <a:ext cx="1911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434960" y="380520"/>
            <a:ext cx="7499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Renaissanc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– a French word meaning rebirt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fers to renewed interest in writings of ancient Greece and Rom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ople learned to read Greek aga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y reformed the Latin that they read, spoke, and wrot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Renaissance began in Ital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onardo da Vinci, Michelangelo, Christopher Columbus, and Galil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434960" y="456840"/>
            <a:ext cx="7499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Mary, Queen of Scots –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lizabeth’s cousi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legitimate heir to the thro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de threats on Elizabeth’s lif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lizabeth had her behead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feat of the Spanish Armada –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ing Phillip of Spain (Elizabeth’s brother-in-law) used the execution of Mary, Q of S, as an excuse to invade Engla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ssembled a large fleet of Spanish warship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Royal Navy, with the help of nasty weather, destroyed the Spanish Armad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s assured that England would be free from foreign invas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434960" y="380520"/>
            <a:ext cx="7499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ladimir Script"/>
              </a:rPr>
              <a:t>The Stuarts</a:t>
            </a:r>
            <a:endParaRPr b="0" lang="en-US" sz="9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Vladimir Script"/>
              </a:rPr>
              <a:t>James I – 1603-1625</a:t>
            </a:r>
            <a:endParaRPr b="0" lang="en-US" sz="4300" spc="-1" strike="noStrike">
              <a:solidFill>
                <a:srgbClr val="572314"/>
              </a:solidFill>
              <a:latin typeface="Vladimir Script"/>
            </a:endParaRPr>
          </a:p>
        </p:txBody>
      </p:sp>
      <p:pic>
        <p:nvPicPr>
          <p:cNvPr id="358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16160"/>
            <a:ext cx="7510320" cy="4938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http://www.tudorplace.com.ar/images/Stuart,JamesI01.jpg"/>
          <p:cNvPicPr/>
          <p:nvPr/>
        </p:nvPicPr>
        <p:blipFill>
          <a:blip r:embed="rId2"/>
          <a:stretch/>
        </p:blipFill>
        <p:spPr>
          <a:xfrm>
            <a:off x="1447920" y="1447920"/>
            <a:ext cx="17431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Vladimir Script"/>
              </a:rPr>
              <a:t>Charles I –1625-1649</a:t>
            </a:r>
            <a:endParaRPr b="0" lang="en-US" sz="5400" spc="-1" strike="noStrike">
              <a:solidFill>
                <a:srgbClr val="572314"/>
              </a:solidFill>
              <a:latin typeface="Vladimir Script"/>
            </a:endParaRPr>
          </a:p>
        </p:txBody>
      </p:sp>
      <p:pic>
        <p:nvPicPr>
          <p:cNvPr id="361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65120"/>
            <a:ext cx="7754760" cy="4889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http://powayusd.sdcoe.k12.ca.us/online/Britlit/images/charlesI.jpg"/>
          <p:cNvPicPr/>
          <p:nvPr/>
        </p:nvPicPr>
        <p:blipFill>
          <a:blip r:embed="rId2"/>
          <a:stretch/>
        </p:blipFill>
        <p:spPr>
          <a:xfrm>
            <a:off x="1523880" y="1447920"/>
            <a:ext cx="1552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Vladimir Script"/>
              </a:rPr>
              <a:t>Oliver Cromwell – 1649-1660</a:t>
            </a:r>
            <a:endParaRPr b="0" lang="en-US" sz="5400" spc="-1" strike="noStrike">
              <a:solidFill>
                <a:srgbClr val="572314"/>
              </a:solidFill>
              <a:latin typeface="Vladimir Script"/>
            </a:endParaRPr>
          </a:p>
        </p:txBody>
      </p:sp>
      <p:pic>
        <p:nvPicPr>
          <p:cNvPr id="364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65120"/>
            <a:ext cx="7510320" cy="48895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http://www.art-prints-on-demand.com/kunst/gaspar_de_crayer/oliver_cromwell_1599_1658_hi.jpg"/>
          <p:cNvPicPr/>
          <p:nvPr/>
        </p:nvPicPr>
        <p:blipFill>
          <a:blip r:embed="rId2"/>
          <a:stretch/>
        </p:blipFill>
        <p:spPr>
          <a:xfrm>
            <a:off x="1447920" y="1447920"/>
            <a:ext cx="1969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Vladimir Script"/>
              </a:rPr>
              <a:t>Charles II – 1660-1685</a:t>
            </a:r>
            <a:endParaRPr b="0" lang="en-US" sz="5400" spc="-1" strike="noStrike">
              <a:solidFill>
                <a:srgbClr val="572314"/>
              </a:solidFill>
              <a:latin typeface="Vladimir Script"/>
            </a:endParaRPr>
          </a:p>
        </p:txBody>
      </p:sp>
      <p:pic>
        <p:nvPicPr>
          <p:cNvPr id="367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65120"/>
            <a:ext cx="7522920" cy="48895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http://content.answers.com/main/content/wp/en/thumb/3/3b/280px-Charles_II_of_England.png"/>
          <p:cNvPicPr/>
          <p:nvPr/>
        </p:nvPicPr>
        <p:blipFill>
          <a:blip r:embed="rId2"/>
          <a:stretch/>
        </p:blipFill>
        <p:spPr>
          <a:xfrm>
            <a:off x="1447920" y="1447920"/>
            <a:ext cx="1912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l images were found 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www.images.google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434960" y="762120"/>
            <a:ext cx="7499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edominant religion – Roman Catholi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hurch financed intellectual and artistic endeavor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umanism – an intellectual moveme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umanism used Latin and Greek classics, along with the teachings of the Church, to teach people how to live and ru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434960" y="456840"/>
            <a:ext cx="7499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lutarch – “The aim of life is to attain virtue, not success or money or fame, because virtue is the best possible human possession and the only source of true happiness.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do YOU think about Plutarch’s idea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Picture 2" descr="http://media-2.web.britannica.com/eb-media/41/66541-004-582E8B66.jpg"/>
          <p:cNvPicPr/>
          <p:nvPr/>
        </p:nvPicPr>
        <p:blipFill>
          <a:blip r:embed="rId1"/>
          <a:stretch/>
        </p:blipFill>
        <p:spPr>
          <a:xfrm>
            <a:off x="3505320" y="3657600"/>
            <a:ext cx="20001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434960" y="380520"/>
            <a:ext cx="7499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Desiderius Erasmus –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-known Renaissance humani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tch monk who lived outside the monast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veled to many count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ed his writings to all educated people of Western Europ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ught Greek at Cambridge University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Thomas More –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young lawy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rote poems, biographi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st famous work wa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Utopi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ommon interests –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ved life, laughter, and classical learn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dicated to the Church but disapproved of the Church’s corrupt practic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434960" y="380520"/>
            <a:ext cx="7499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ohannes Gutenberg –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rma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vented printing with moveable ty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ted the first complete book—the Latin Bi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d to more books, which meant they were cheap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lliam Caxton –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rchant, diplomat, write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t up a printing press in Westmins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ssued about 100 titles in English, initiating a flood of print in Englis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434960" y="456840"/>
            <a:ext cx="7499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Reformation – a series of events that involved the rejection of the pope and the Italian churchm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English resented the financial burdens imposed on them by the Vatica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rtin Luther –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German mo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nded a new kind of Christianity based on a personal understanding of the Bible rather than on what the pope sai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72314"/>
                </a:solidFill>
                <a:latin typeface="Vladimir Script"/>
              </a:rPr>
              <a:t>The Renaissance Monarchs</a:t>
            </a:r>
            <a:endParaRPr b="0" lang="en-US" sz="6000" spc="-1" strike="noStrike">
              <a:solidFill>
                <a:srgbClr val="572314"/>
              </a:solidFill>
              <a:latin typeface="Vladimir Scrip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ladimir Script"/>
              </a:rPr>
              <a:t>The Tudors</a:t>
            </a:r>
            <a:endParaRPr b="0" lang="en-US" sz="9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Vladimir Script"/>
              </a:rPr>
              <a:t>Henry VII – 1457-1509</a:t>
            </a:r>
            <a:endParaRPr b="0" lang="en-US" sz="5400" spc="-1" strike="noStrike">
              <a:solidFill>
                <a:srgbClr val="572314"/>
              </a:solidFill>
              <a:latin typeface="Vladimir Script"/>
            </a:endParaRPr>
          </a:p>
        </p:txBody>
      </p:sp>
      <p:pic>
        <p:nvPicPr>
          <p:cNvPr id="330" name="Content Placeholder 2" descr=""/>
          <p:cNvPicPr/>
          <p:nvPr/>
        </p:nvPicPr>
        <p:blipFill>
          <a:blip r:embed="rId1"/>
          <a:stretch/>
        </p:blipFill>
        <p:spPr>
          <a:xfrm>
            <a:off x="1432080" y="1322280"/>
            <a:ext cx="7510320" cy="4932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http://mktimeline.com/henry7sittow1.jpg"/>
          <p:cNvPicPr/>
          <p:nvPr/>
        </p:nvPicPr>
        <p:blipFill>
          <a:blip r:embed="rId2"/>
          <a:stretch/>
        </p:blipFill>
        <p:spPr>
          <a:xfrm>
            <a:off x="1447920" y="1447920"/>
            <a:ext cx="17618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3:35:05Z</dcterms:created>
  <dc:creator>pcoles</dc:creator>
  <dc:description/>
  <dc:language>en-US</dc:language>
  <cp:lastModifiedBy>pcoles</cp:lastModifiedBy>
  <dcterms:modified xsi:type="dcterms:W3CDTF">2009-03-12T15:08:19Z</dcterms:modified>
  <cp:revision>28</cp:revision>
  <dc:subject/>
  <dc:title>The Renaissance:</dc:title>
</cp:coreProperties>
</file>